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8BA-A26C-44CB-BA95-C31D30AE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727-DD08-4CB5-BDED-30D6002B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23D-713B-4828-B63B-060CD04E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2702-75A1-4E3B-ADBD-F079368B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09B3-41AC-4122-A82B-962BEE29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CFF1-3ABA-4B60-BF02-7F140125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747B-542D-44A8-A987-A9E8B7F7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D070-DB13-4285-86D3-2DEE1447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BD91-D6A6-4915-9845-D4151774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4A1F-20FE-4B05-A469-4075C6E8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DCE2-BB27-4E05-88EA-974081F2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E09-855C-41C3-8750-02162D80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BE16-1906-4B1A-8E0C-A06332B5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E8E6-D316-4D8A-8AB5-07616DAD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A3FA-2230-4F18-93CD-973D4D91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98A7-5A60-46CD-A988-7DEEDB0C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3E9F-BC4E-419A-AD7E-AB618E14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3F317-59D0-4BB2-BD25-79A76558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A9B7-374A-4F0A-A401-D01D7F82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CD205-126B-4318-A399-51871E36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D47B9-B343-4181-8158-B7E32B03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ED157-37F6-4288-87BD-433BAFCF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4D0-A145-4305-A787-316D6CEA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C4740-34C3-4959-B90B-824AE1EC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D7E61-9CA3-4D7A-B683-874E3194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F7043-180B-435D-9546-FABD4AF3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8C852-A6B9-4DD6-AB60-7F51D2C2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092EF-490D-4FAE-82B7-B336F687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5602B-FAEE-4322-B81C-FC984D54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327F6-7232-4197-8A7E-945D41A6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CEC62-1631-4254-B715-D0623BDC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17563-5D69-49C6-82AF-68692BAE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2A1FF-1ED5-44A3-88F7-5E446419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C37-C1AC-42B7-9651-AE0298FD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45A3F-2464-4E8E-AC42-84E99CE9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DCC39-9D8A-41A7-A1B4-1B0AE60C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26132-C9BB-4674-B645-B5F3412D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6E3EC-466C-403B-823D-06C129DD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6A584-82D4-45AC-B74A-A23F09D8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CB7A3-A521-4FDF-A4F5-FEF9ED7E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2CA83-23E6-4809-828F-E0FEFCE3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98819-1C07-4817-93B8-095D2967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68F67-9594-4501-8C13-E2E8DB8D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FCDEC-EA0C-4007-A584-52D8267C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558-5CFA-4C57-9594-17804324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388A8-F860-4FAF-8F03-4BF27193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382E0-A32A-434D-B37F-24F9C68D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97C64-EC9F-4F55-BA2C-5F1F1BBD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A59A9-FB1A-43BD-BB94-2DFCB25A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D42D8-A1FF-40F7-91C7-0B1D770C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EA244-E6D9-45C6-987B-850B34B6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F69A5-4C00-4404-AB0B-D1F44703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9FACF-7CCA-4A7A-941D-0384B35E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9F790-C5C6-48E8-B5E2-FE028A51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94F10-1708-42AF-9BB3-338DD3FE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365-9E9C-4790-88B6-5EC61416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C5107-0E81-4DCB-B830-B47D46FF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79AA9-97C7-4F3B-ABBF-240E6438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403DB-2CBE-4BFA-9D23-5AD286A3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D8F8C-DF33-4DD6-9987-F5334899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7B7CF-84BF-44F7-8104-E98DB5D1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34C13-6DA5-4824-8D1B-2AF2D100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6F2C8-CB35-4E34-80AF-47AF3ED7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51AFF-7745-427B-88FC-BBDB00D6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01871-F56F-4992-B04A-E3994868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5937F-1E26-4E9F-86B5-B5FFD02F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8B3-08CA-4528-BFCB-B92F86C2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07D3D-E583-4A55-9CF2-AB7ACFE0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F99D1-A47F-4D02-B2FC-E42E4A4E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F9C40-69FC-48F1-8BE4-C27166C1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4B991-2CD6-4D6B-8B2B-1B2C5F1B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C456A-8EF9-4761-979C-C1B88DCA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BC515-72B0-40BD-9FA1-F17538AA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96A08-B0D5-43E0-B5FF-F10B94F1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FB104-D89E-4693-8CDC-686D5E65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AF0A3-EA70-4F1D-934D-E9F92EB0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9E357-526E-4C25-9DF4-0A5DF5B6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421-B54F-4C56-BDB9-5167AF87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0793A-794E-456B-A85D-B2377F70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41D66-0576-479C-8697-C03B2053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B0F26-BCA6-4376-A6BC-4B104678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570BB-13AD-4CF8-B3EE-B487FCA4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1D6E7-D52E-42B0-B793-C692DD68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1C1-3CC0-49D5-A15F-52DC945E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7E7B-6F9F-48C7-8BE1-872A6AD50AB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2FC9-B628-4B24-BED4-6D3D9F21F238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DA28-B02D-4CF7-BE0B-8A501168EC8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4890-FFFB-49DE-B956-0E0B1AB0CD86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F7BA-6A79-4E00-885F-FF04F6CAA3A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4931-62E7-4CC3-973C-A5A9344DDCAA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2023-15DA-42E1-8259-2D25D436A356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"/><Relationship Id="rId3" Type="http://schemas.openxmlformats.org/officeDocument/2006/relationships/image" Target="../media/image27.png"/><Relationship Id="rId4" Type="http://schemas.openxmlformats.org/officeDocument/2006/relationships/slide" Target="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0280" y="450720"/>
            <a:ext cx="807084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450720" y="2266920"/>
            <a:ext cx="8077320" cy="1854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l_w-cells.jpg"/>
          <p:cNvPicPr/>
          <p:nvPr/>
        </p:nvPicPr>
        <p:blipFill>
          <a:blip r:embed="rId3"/>
          <a:stretch/>
        </p:blipFill>
        <p:spPr>
          <a:xfrm>
            <a:off x="457200" y="3276720"/>
            <a:ext cx="5562720" cy="326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762120" y="990720"/>
          <a:ext cx="7924680" cy="439416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439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mpound Light Microsco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388c"/>
                          </a:solidFill>
                          <a:uFillTx/>
                          <a:latin typeface="Century Gothic"/>
                        </a:rPr>
                        <a:t>Has 2 or more lenses.  The best ones view at 2000X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6" name="Picture 6" descr="LightMicroscope.gif"/>
          <p:cNvPicPr/>
          <p:nvPr/>
        </p:nvPicPr>
        <p:blipFill>
          <a:blip r:embed="rId1"/>
          <a:stretch/>
        </p:blipFill>
        <p:spPr>
          <a:xfrm>
            <a:off x="1523880" y="1981080"/>
            <a:ext cx="239580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762120" y="990720"/>
          <a:ext cx="7924680" cy="439416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439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canning Electron Microscope (SE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388c"/>
                          </a:solidFill>
                          <a:uFillTx/>
                          <a:latin typeface="Century Gothic"/>
                        </a:rPr>
                        <a:t>Shows the surface of an organism in 3-D.  Magnifies up to 60,000X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8" name="Picture 4" descr="diatom.gif"/>
          <p:cNvPicPr/>
          <p:nvPr/>
        </p:nvPicPr>
        <p:blipFill>
          <a:blip r:embed="rId1"/>
          <a:stretch/>
        </p:blipFill>
        <p:spPr>
          <a:xfrm>
            <a:off x="1143000" y="2133720"/>
            <a:ext cx="3200400" cy="2666880"/>
          </a:xfrm>
          <a:prstGeom prst="rect">
            <a:avLst/>
          </a:prstGeom>
          <a:ln w="9360">
            <a:solidFill>
              <a:srgbClr val="e40059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762120" y="990720"/>
          <a:ext cx="7924680" cy="439416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439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canning Tunneling Microscope (ST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388c"/>
                          </a:solidFill>
                          <a:uFillTx/>
                          <a:latin typeface="Century Gothic"/>
                        </a:rPr>
                        <a:t>Shows the surface of molecules like DNA.  Can even view individual atom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0" name="Picture 6" descr="2949156241.jpg"/>
          <p:cNvPicPr/>
          <p:nvPr/>
        </p:nvPicPr>
        <p:blipFill>
          <a:blip r:embed="rId1"/>
          <a:stretch/>
        </p:blipFill>
        <p:spPr>
          <a:xfrm>
            <a:off x="1219320" y="2057400"/>
            <a:ext cx="2590560" cy="312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762120" y="990720"/>
          <a:ext cx="7924680" cy="439416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439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ransmission Electron Microscope (TE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388c"/>
                          </a:solidFill>
                          <a:uFillTx/>
                          <a:latin typeface="Century Gothic"/>
                        </a:rPr>
                        <a:t>Uses beam of electrons.  Create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388c"/>
                          </a:solidFill>
                          <a:uFillTx/>
                          <a:latin typeface="Century Gothic"/>
                        </a:rPr>
                        <a:t>2-D images to see inside a specimen.  Can magnify up to 100,000X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2" name="Picture 4" descr="allium.jpg"/>
          <p:cNvPicPr/>
          <p:nvPr/>
        </p:nvPicPr>
        <p:blipFill>
          <a:blip r:embed="rId1"/>
          <a:stretch/>
        </p:blipFill>
        <p:spPr>
          <a:xfrm>
            <a:off x="457200" y="198108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imagesII.jpg"/>
          <p:cNvPicPr/>
          <p:nvPr/>
        </p:nvPicPr>
        <p:blipFill>
          <a:blip r:embed="rId2"/>
          <a:stretch/>
        </p:blipFill>
        <p:spPr>
          <a:xfrm>
            <a:off x="2438280" y="4038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2356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"/>
          <p:cNvGraphicFramePr/>
          <p:nvPr/>
        </p:nvGraphicFramePr>
        <p:xfrm>
          <a:off x="228600" y="1397160"/>
          <a:ext cx="8686800" cy="5232240"/>
        </p:xfrm>
        <a:graphic>
          <a:graphicData uri="http://schemas.openxmlformats.org/drawingml/2006/table">
            <a:tbl>
              <a:tblPr/>
              <a:tblGrid>
                <a:gridCol w="1447920"/>
                <a:gridCol w="1523880"/>
                <a:gridCol w="1676520"/>
                <a:gridCol w="1143000"/>
                <a:gridCol w="1447560"/>
                <a:gridCol w="144792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ll Ty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el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# of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ample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ic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210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Prokaryot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N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N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Bacte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1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Eukaryot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Lo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1 or m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Protis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Fung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Pla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40059"/>
                          </a:solidFill>
                          <a:uFillTx/>
                          <a:latin typeface="Century Gothic"/>
                        </a:rPr>
                        <a:t>Anim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pic>
        <p:nvPicPr>
          <p:cNvPr id="346" name="Picture 4" descr="prokaryotic_cell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243828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cell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91520" y="4495680"/>
            <a:ext cx="1523880" cy="21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49" name="Content Placeholder 3" descr="prokaryotic_cel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Content Placeholder 3" descr="cel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-6480" y="201600"/>
            <a:ext cx="9156960" cy="1468440"/>
          </a:xfrm>
          <a:prstGeom prst="rect">
            <a:avLst/>
          </a:prstGeom>
          <a:ln w="0">
            <a:noFill/>
          </a:ln>
        </p:spPr>
      </p:pic>
      <p:pic>
        <p:nvPicPr>
          <p:cNvPr id="305" name="Content Placeholder 3" descr="movingamoeba.gif"/>
          <p:cNvPicPr/>
          <p:nvPr/>
        </p:nvPicPr>
        <p:blipFill>
          <a:blip r:embed="rId2"/>
          <a:stretch/>
        </p:blipFill>
        <p:spPr>
          <a:xfrm>
            <a:off x="3200400" y="2133720"/>
            <a:ext cx="2743200" cy="32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-6480" y="122400"/>
            <a:ext cx="9156960" cy="1547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88244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A.  Anton van Leeuwenhoek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TextBox 3"/>
          <p:cNvSpPr/>
          <p:nvPr/>
        </p:nvSpPr>
        <p:spPr>
          <a:xfrm>
            <a:off x="304920" y="274320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(1632 – 1723)  First to use the simple microscope and viewed red blood cells as well as bacter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4" descr="leeuwenh.jpg"/>
          <p:cNvPicPr/>
          <p:nvPr/>
        </p:nvPicPr>
        <p:blipFill>
          <a:blip r:embed="rId2"/>
          <a:stretch/>
        </p:blipFill>
        <p:spPr>
          <a:xfrm>
            <a:off x="6400800" y="4114800"/>
            <a:ext cx="1943280" cy="233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B.  Robert Hooke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914400" y="10666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(1635 – 1703)  Came up with the name “cell”.  Used the compound light microscope to view cork cel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4" descr="150px-RobertHookeMicrographia1665.jpg"/>
          <p:cNvPicPr/>
          <p:nvPr/>
        </p:nvPicPr>
        <p:blipFill>
          <a:blip r:embed="rId1"/>
          <a:stretch/>
        </p:blipFill>
        <p:spPr>
          <a:xfrm>
            <a:off x="1523880" y="365760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150px-Hooke_Microscope-03000276-FIG-4.jpg"/>
          <p:cNvPicPr/>
          <p:nvPr/>
        </p:nvPicPr>
        <p:blipFill>
          <a:blip r:embed="rId2"/>
          <a:stretch/>
        </p:blipFill>
        <p:spPr>
          <a:xfrm>
            <a:off x="5486400" y="2971800"/>
            <a:ext cx="259092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C.  Robert Brown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609480" y="121932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(1773 – 1858)  Saw the random movement of molecules in plant cells and celled it Brownian Motion.  Today we call it Diffu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4" descr="180px-Brown_robert.jpg"/>
          <p:cNvPicPr/>
          <p:nvPr/>
        </p:nvPicPr>
        <p:blipFill>
          <a:blip r:embed="rId1"/>
          <a:stretch/>
        </p:blipFill>
        <p:spPr>
          <a:xfrm>
            <a:off x="6019920" y="3733920"/>
            <a:ext cx="2514600" cy="2869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brownian.gif"/>
          <p:cNvPicPr/>
          <p:nvPr/>
        </p:nvPicPr>
        <p:blipFill>
          <a:blip r:embed="rId2"/>
          <a:stretch/>
        </p:blipFill>
        <p:spPr>
          <a:xfrm>
            <a:off x="1523880" y="4267080"/>
            <a:ext cx="259092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D.  Rudolf Virchow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TextBox 3"/>
          <p:cNvSpPr/>
          <p:nvPr/>
        </p:nvSpPr>
        <p:spPr>
          <a:xfrm>
            <a:off x="6858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(1821 – 1902)  Saw the nucleus of the cell as well as cell divi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4" descr="mitosisheader.jpg"/>
          <p:cNvPicPr/>
          <p:nvPr/>
        </p:nvPicPr>
        <p:blipFill>
          <a:blip r:embed="rId1"/>
          <a:stretch/>
        </p:blipFill>
        <p:spPr>
          <a:xfrm>
            <a:off x="304920" y="2895480"/>
            <a:ext cx="4800600" cy="3353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220px-Rudolf_Virchow.jpg"/>
          <p:cNvPicPr/>
          <p:nvPr/>
        </p:nvPicPr>
        <p:blipFill>
          <a:blip r:embed="rId2"/>
          <a:stretch/>
        </p:blipFill>
        <p:spPr>
          <a:xfrm>
            <a:off x="6095160" y="3199680"/>
            <a:ext cx="2249640" cy="273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E.  Mathias Schleiden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457200" y="3352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F.  Theodore Schwan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4"/>
          <p:cNvSpPr/>
          <p:nvPr/>
        </p:nvSpPr>
        <p:spPr>
          <a:xfrm>
            <a:off x="990720" y="10666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(1804 – 1881)  All plants are made of cel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5" descr="225px-Matthias_Jacob_Schleiden.jpg"/>
          <p:cNvPicPr/>
          <p:nvPr/>
        </p:nvPicPr>
        <p:blipFill>
          <a:blip r:embed="rId1"/>
          <a:stretch/>
        </p:blipFill>
        <p:spPr>
          <a:xfrm>
            <a:off x="6781680" y="1828800"/>
            <a:ext cx="1981440" cy="2133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plantcellwall.jpg"/>
          <p:cNvPicPr/>
          <p:nvPr/>
        </p:nvPicPr>
        <p:blipFill>
          <a:blip r:embed="rId2"/>
          <a:stretch/>
        </p:blipFill>
        <p:spPr>
          <a:xfrm>
            <a:off x="3581280" y="1828800"/>
            <a:ext cx="2057400" cy="1447920"/>
          </a:xfrm>
          <a:prstGeom prst="rect">
            <a:avLst/>
          </a:prstGeom>
          <a:ln w="0">
            <a:noFill/>
          </a:ln>
        </p:spPr>
      </p:pic>
      <p:sp>
        <p:nvSpPr>
          <p:cNvPr id="327" name="TextBox 7"/>
          <p:cNvSpPr/>
          <p:nvPr/>
        </p:nvSpPr>
        <p:spPr>
          <a:xfrm>
            <a:off x="838080" y="41148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(1810 – 1882)  All animals are made of cel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8" descr="theodor-schwann-1-sized.jpg"/>
          <p:cNvPicPr/>
          <p:nvPr/>
        </p:nvPicPr>
        <p:blipFill>
          <a:blip r:embed="rId3"/>
          <a:stretch/>
        </p:blipFill>
        <p:spPr>
          <a:xfrm>
            <a:off x="7162920" y="4876920"/>
            <a:ext cx="1676160" cy="1774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3459406092.jpg"/>
          <p:cNvPicPr/>
          <p:nvPr/>
        </p:nvPicPr>
        <p:blipFill>
          <a:blip r:embed="rId4"/>
          <a:stretch/>
        </p:blipFill>
        <p:spPr>
          <a:xfrm>
            <a:off x="4572000" y="5105520"/>
            <a:ext cx="2048040" cy="130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9156960" cy="14079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533160" y="1676160"/>
            <a:ext cx="83055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6400" indent="-74304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All organisms are </a:t>
            </a: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composed of cell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806400" indent="-74304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The cell is the </a:t>
            </a: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basic unit of lif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806400" indent="-743040">
              <a:spcBef>
                <a:spcPts val="901"/>
              </a:spcBef>
              <a:buClr>
                <a:srgbClr val="ff388c"/>
              </a:buClr>
              <a:buSzPct val="80000"/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All cells come from </a:t>
            </a:r>
            <a:r>
              <a:rPr b="1" lang="en-US" sz="3600" spc="-1" strike="noStrike" u="sng">
                <a:solidFill>
                  <a:srgbClr val="ff388c"/>
                </a:solidFill>
                <a:uFillTx/>
                <a:latin typeface="Century Gothic"/>
              </a:rPr>
              <a:t>pre-existing cell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920592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"/>
          <p:cNvGraphicFramePr/>
          <p:nvPr/>
        </p:nvGraphicFramePr>
        <p:xfrm>
          <a:off x="762120" y="1397160"/>
          <a:ext cx="7924680" cy="439416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439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imple Light Microsco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388c"/>
                          </a:solidFill>
                          <a:uFillTx/>
                          <a:latin typeface="Century Gothic"/>
                        </a:rPr>
                        <a:t>Has only 1 lens (like a magnifying glas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4" name="Picture 4" descr="Leeuwenhoek Microscope.bmp"/>
          <p:cNvPicPr/>
          <p:nvPr/>
        </p:nvPicPr>
        <p:blipFill>
          <a:blip r:embed="rId2"/>
          <a:stretch/>
        </p:blipFill>
        <p:spPr>
          <a:xfrm>
            <a:off x="1219320" y="2895480"/>
            <a:ext cx="3047760" cy="20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8:19:51Z</dcterms:created>
  <dc:creator>HOME</dc:creator>
  <dc:description/>
  <dc:language>en-US</dc:language>
  <cp:lastModifiedBy>teacher</cp:lastModifiedBy>
  <dcterms:modified xsi:type="dcterms:W3CDTF">2009-02-16T12:08:57Z</dcterms:modified>
  <cp:revision>10</cp:revision>
  <dc:subject/>
  <dc:title>Notes: Cell History</dc:title>
</cp:coreProperties>
</file>